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363B-5C2A-4B46-A8D0-3A8E5E4A8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7366-7CB9-4F7E-B94F-06AE7F74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749F-A0D4-412D-A096-AD9654E62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AF28-1AFE-427F-ADE4-AB69402C2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78EE-6FC8-4FD6-8E73-0BCF22A9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2FBD-EC2E-45DD-90BA-62B516B2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0484-8CD6-427A-8736-3B221CBA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8A40-62B9-46DA-B404-DBB7029B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19B4-19D4-4698-A958-28EAF17B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D380-F629-4378-B815-B0B8FE0C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831C-B605-439C-B223-C7552537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E822-49F7-41A3-B19F-31B3FC83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6B8F-5F60-4B59-98EB-583C5B4BC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T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0948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NOW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4191120" y="1981080"/>
            <a:ext cx="4952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 is not to become experts in any particular software as such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o revisit our educational philosophies through ICT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and ongoing training in various s/w applications and at the same tim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ing the above in relation to our pedagogical practices thereby becoming reflective practition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ces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/June - Initial Review- (surve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-June - Individual teacher meetings – (not more than10/15 mins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onwards - Regular PD sessions, support group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-school/lun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 and options – teachers’ preferen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405144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outside the dance flo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LY TRANSITORY NATURE OF STUDENT LIF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Third Culture Kid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TIONALLY MOBILE TEACHER COMMUNITY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revolving-door-syndrome’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EDING GLOBAL ECONOM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ing need for managing ‘turbulence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 making amidst tran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ing the “thread of transition alive” with technology for T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 teaching and learning more interac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 beyond Power Point(l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 lessons more engaging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ing for Generation “Y”!!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ing differentiation with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ffolding with Technology to enhance Zone of Proximal Develop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ygotsky 193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6172200" y="3276720"/>
            <a:ext cx="26668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m’s Taxonomy blooms” with I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Mind map of Bloom's Revised Digital Taxonomy"/>
          <p:cNvPicPr/>
          <p:nvPr/>
        </p:nvPicPr>
        <p:blipFill>
          <a:blip r:embed="rId1"/>
          <a:stretch/>
        </p:blipFill>
        <p:spPr>
          <a:xfrm>
            <a:off x="457200" y="1066680"/>
            <a:ext cx="8686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THERING ESSENTIALS OF A “2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ENTURY TEACHERS’ BACKPAC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e of the prof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ulfed in meeting deadlines… ‘live by the bell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growth patter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to gather ‘skills’ as we go alo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cher Digital Portfoli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Soft Copy of your Res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aging in ICT integrated pedagogy is essential for building an effective Digital Teacher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manding and time consum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prioritize and plan…set aside so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CHERS AS REFLECTIVE PRACTITIONERS- ACTION RESEAR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Whitehead and Mc Niff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not an end-product but is continuous and ongo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sentials of the Tool Ki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orities at UAS for next y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 Board Resources/using Note Book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/Student/Teacher Por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T Integration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on Software Application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s for The Tool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focus on Ms Excel and Ms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be Premium CS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be Photo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be F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be Dreamwea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e Maker and…so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ve classro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ly constructing knowled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ygotsky 19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is flat !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eidman,T.,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room without walls…social network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indsay., 2006, 201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-teaching and sharing of best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k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S F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943600" y="2971800"/>
            <a:ext cx="2629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5:59:22Z</dcterms:created>
  <dc:creator>sunder p krishnan</dc:creator>
  <dc:description/>
  <dc:language>en-US</dc:language>
  <cp:lastModifiedBy>ssunder</cp:lastModifiedBy>
  <dcterms:modified xsi:type="dcterms:W3CDTF">2010-05-02T10:19:59Z</dcterms:modified>
  <cp:revision>29</cp:revision>
  <dc:subject/>
  <dc:title>ICT INTEGRATION</dc:title>
</cp:coreProperties>
</file>