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177-9B3A-47E3-8ADC-F34CDD30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D0D-B70A-4811-8C85-D69BC46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955-FE01-437F-80E5-A320936C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2A6-822C-4E2B-9FD5-895F2325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7CC-DA5A-430E-A0A2-B35DB10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5EE-C1A1-4F93-9720-9E51C30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611-40AA-406F-9018-EC4CE7D1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DCE-FA24-44DB-9038-36EA2F80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9CE-674A-45E2-AB8E-58AFC85E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0FC-B8BC-484B-998D-3309AC55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D38-9E44-4A90-A577-66D0733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552-1517-4112-AEED-0FF2721A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9157-62FB-40E7-8B8C-BDA1B20B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094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W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is not to become experts in any particular software as su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visit our educational philosophies through IC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nd ongoing training in various s/w applications and at the same ti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the above in relation to our pedagogical practices thereby becoming reflective practitio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/June - Initial Review- (surve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-June - Individual teacher meetings – (not more than10/15 min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onwards - Regular PD sessions, support group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school/l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and options – teachers’ prefer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51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utside the dance flo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TRANSITORY NATURE OF STUDENT LIF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Third Culture Kid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LY MOBILE TEACHER COMMUNITY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revolving-door-syndrome’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EDING GLOBAL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ing need for managing ‘turbulence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making amidst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thread of transition alive” with technology for T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eaching and learning more inter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beyond Power Point(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lessons more engag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or Generation “Y”!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differentiation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ffolding with Technology to enhance Zone of Proximal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 blooms” with 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ind map of Bloom's Revised Digital Taxonomy"/>
          <p:cNvPicPr/>
          <p:nvPr/>
        </p:nvPicPr>
        <p:blipFill>
          <a:blip r:embed="rId1"/>
          <a:stretch/>
        </p:blipFill>
        <p:spPr>
          <a:xfrm>
            <a:off x="457200" y="1066680"/>
            <a:ext cx="8686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HERING ESSENTIALS OF A “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TEACHERS’ BACKP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th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ulfed in meeting deadlines… ‘live by the bel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growth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gather ‘skills’ as we go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Digital Portfoli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oft Copy of your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in ICT integrated pedagogy is essential for building an effective Digital Teach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manding and time consum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prioritize and plan…set aside so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AS REFLECTIVE PRACTITIONERS- ACTION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itehead and Mc Niff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an end-product but is continuous and ongo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s of the Tool K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es at UAS for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Board Resources/using Note Book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/Student/Teacher 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Software Applic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for The Tool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ocus on Ms Excel and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remium C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Dream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 Maker and…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class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constructing knowled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flat 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idman,T.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without walls…social network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dsay., 2006, 20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-teaching and sharing of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59:22Z</dcterms:created>
  <dc:creator>sunder p krishnan</dc:creator>
  <dc:description/>
  <dc:language>en-US</dc:language>
  <cp:lastModifiedBy>ssunder</cp:lastModifiedBy>
  <dcterms:modified xsi:type="dcterms:W3CDTF">2010-05-02T10:19:59Z</dcterms:modified>
  <cp:revision>29</cp:revision>
  <dc:subject/>
  <dc:title>ICT INTEGRATION</dc:title>
</cp:coreProperties>
</file>