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504-766D-430C-9BA8-870A8A78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E4C-6A4A-4F2E-8D69-62D9D1DB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356-7CEB-4BFC-8CD4-3ACC651B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DBA-12CE-490C-B0B5-0240ABD3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5B0-9AF9-429D-BC7B-274508D5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C8B-BBB7-4A47-8B2C-7B69387B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70C-E518-4D63-A4FB-055907FC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4A6-A1ED-477D-88DD-C5ADCA28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F93-2DCC-4DA6-87D1-8C79D4A8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358-BFB5-42D8-92CF-5E2CC2E5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FAA-347C-4FCA-A8F9-57C574D8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9FF-1874-4BD2-995A-C90840D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F03B-AAB4-4402-B32B-2BC4AE6E0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094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W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 is not to become experts in any particular software as su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o revisit our educational philosophies through ICT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nd ongoing training in various s/w applications and at the same tim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ing the above in relation to our pedagogical practices thereby becoming reflective practitio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/June - Initial Review- (surve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-June - Individual teacher meetings – (not more than10/15 min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onwards - Regular PD sessions, support group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-school/lu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and options – teachers’ prefere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0514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outside the dance flo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LY TRANSITORY NATURE OF STUDENT LIF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Third Culture Kid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LY MOBILE TEACHER COMMUNITY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revolving-door-syndrome’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EDING GLOBAL EC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ing need for managing ‘turbulence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making amidst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the “thread of transition alive” with technology for T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eaching and learning more inter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beyond Power Point(l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lessons more engaging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or Generation “Y”!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differentiation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ffolding with Technology to enhance Zone of Proximal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ygotsky 19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2666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m’s Taxonomy blooms” with 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Mind map of Bloom's Revised Digital Taxonomy"/>
          <p:cNvPicPr/>
          <p:nvPr/>
        </p:nvPicPr>
        <p:blipFill>
          <a:blip r:embed="rId1"/>
          <a:stretch/>
        </p:blipFill>
        <p:spPr>
          <a:xfrm>
            <a:off x="457200" y="1066680"/>
            <a:ext cx="8686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THERING ESSENTIALS OF A “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 TEACHERS’ BACKP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the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ulfed in meeting deadlines… ‘live by the bel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growth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gather ‘skills’ as we go alo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Digital Portfoli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oft Copy of your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ing in ICT integrated pedagogy is essential for building an effective Digital Teache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manding and time consum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prioritize and plan…set aside so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RS AS REFLECTIVE PRACTITIONERS- ACTION RE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itehead and Mc Niff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an end-product but is continuous and ongo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s of the Tool K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ities at UAS for next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 Board Resources/using Note Book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/Student/Teacher Por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Integration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n Software Application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for The Tool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ocus on Ms Excel and Ms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Premium C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Photo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Dreamwe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e Maker and…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classro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ly constructing knowled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ygotsky 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is flat !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eidman,T.,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without walls…social network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indsay., 2006, 20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-teaching and sharing of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262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59:22Z</dcterms:created>
  <dc:creator>sunder p krishnan</dc:creator>
  <dc:description/>
  <dc:language>en-US</dc:language>
  <cp:lastModifiedBy>ssunder</cp:lastModifiedBy>
  <dcterms:modified xsi:type="dcterms:W3CDTF">2010-05-02T10:19:59Z</dcterms:modified>
  <cp:revision>29</cp:revision>
  <dc:subject/>
  <dc:title>ICT INTEGRATION</dc:title>
</cp:coreProperties>
</file>