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795-F88A-4726-B791-14DC4DED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3F9-FFF6-463A-8EF2-A331AF0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F47-9858-4AC2-B17B-26AA91DD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9D0-547C-4572-B4FF-A2F0FAA8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6C6-069C-41FC-A333-BC46CF9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CF5-1282-4283-B869-EA0382F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CF3-6E63-45E7-92AD-7CC3C037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8C6-638F-456A-B736-65EEFB6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ECA-940A-4988-B015-5904219B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E32-8514-43A6-86AC-1892A91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D6D-7F2F-477A-84C0-39988E0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3D2-3A7B-4F5B-985E-B22DCCD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6D3C-D8F4-462F-8BE6-9092FBEE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09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W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is not to become experts in any particular software as su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visit our educational philosophies through IC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nd ongoing training in various s/w applications and at the same ti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the above in relation to our pedagogical practices thereby becoming reflective practitio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- Initial Review- (surv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-June - Individual teacher meetings – (not more than10/15 min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onwards - Regular PD sessions, support group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school/l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and options – teachers’ prefer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51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utside the dance flo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TRANSITORY NATURE OF STUDENT LIF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Third Culture Kid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LY MOBILE TEACHER COMMUNITY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revolving-door-syndrom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EDING GLOB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ing need for managing ‘turbulence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making amidst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thread of transition alive” with technology for T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eaching and learning more inter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beyond Power Point(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lessons more engag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or Generation “Y”!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differentiation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ffolding with Technology to enhance Zone of Proximal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 blooms” with 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ind map of Bloom's Revised Digital Taxonomy"/>
          <p:cNvPicPr/>
          <p:nvPr/>
        </p:nvPicPr>
        <p:blipFill>
          <a:blip r:embed="rId1"/>
          <a:stretch/>
        </p:blipFill>
        <p:spPr>
          <a:xfrm>
            <a:off x="457200" y="1066680"/>
            <a:ext cx="8686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HERING ESSENTIALS OF A “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ACHERS’ BACK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th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ulfed in meeting deadlines… ‘live by the bel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growth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gather ‘skills’ as we go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Digital Portfoli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oft Copy of your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ICT integrated pedagogy is essential for building an effective Digital Teach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manding and time consum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prioritize and plan…set aside so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AS REFLECTIVE PRACTITIONERS- ACTION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itehead and Mc Niff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n end-product but is continuous and ongo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s of the Tool K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es at UAS for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Board Resources/using Note Book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/Student/Teacher 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Software Applic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The Tool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cus on Ms Excel and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remium C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Maker and…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constructing 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flat 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idman,T.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without walls…social network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dsay., 2006, 20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-teaching and sharing of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59:22Z</dcterms:created>
  <dc:creator>sunder p krishnan</dc:creator>
  <dc:description/>
  <dc:language>en-US</dc:language>
  <cp:lastModifiedBy>ssunder</cp:lastModifiedBy>
  <dcterms:modified xsi:type="dcterms:W3CDTF">2010-05-02T10:19:59Z</dcterms:modified>
  <cp:revision>29</cp:revision>
  <dc:subject/>
  <dc:title>ICT INTEGRATION</dc:title>
</cp:coreProperties>
</file>